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E65E-E691-4F16-BE3A-A9B814A31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BC2F-41EE-42FA-A98C-90D1F410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682F-7635-4C03-B123-7F7CA7A3F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2D99-103B-4DBA-B35E-A8F540B4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7AA4-B23F-4D45-BA54-5BB45342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6411-4CC9-450D-9DF9-AFEF7847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7002-35D5-467E-A67E-3FE92BD4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1A0E-A8F5-4BE7-986C-B42A3459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CC1B-FCAE-42AC-BA87-1C28CE12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B951-0825-48D7-A68A-6A1F47BC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B537-366D-46DF-BE43-168F332B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5278-2BD3-48BB-8033-FB558DA7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4FB7-FC5D-49B3-BB65-E35B546A4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2276640"/>
            <a:ext cx="903240" cy="200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16000" y="404640"/>
            <a:ext cx="2438280" cy="1257480"/>
          </a:xfrm>
          <a:prstGeom prst="wedgeEllipseCallout">
            <a:avLst>
              <a:gd name="adj1" fmla="val -68828"/>
              <a:gd name="adj2" fmla="val 1171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1413000"/>
            <a:ext cx="2664000" cy="1485720"/>
          </a:xfrm>
          <a:prstGeom prst="wedgeEllipseCallout">
            <a:avLst>
              <a:gd name="adj1" fmla="val -57986"/>
              <a:gd name="adj2" fmla="val 467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2852640"/>
            <a:ext cx="2438640" cy="1486080"/>
          </a:xfrm>
          <a:prstGeom prst="wedgeEllipseCallout">
            <a:avLst>
              <a:gd name="adj1" fmla="val -62944"/>
              <a:gd name="adj2" fmla="val -458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968720" y="333360"/>
            <a:ext cx="2438640" cy="1257480"/>
          </a:xfrm>
          <a:prstGeom prst="wedgeEllipseCallout">
            <a:avLst>
              <a:gd name="adj1" fmla="val 48750"/>
              <a:gd name="adj2" fmla="val 783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1341360"/>
            <a:ext cx="2684520" cy="1486080"/>
          </a:xfrm>
          <a:prstGeom prst="wedgeEllipseCallout">
            <a:avLst>
              <a:gd name="adj1" fmla="val 67625"/>
              <a:gd name="adj2" fmla="val 589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88000" y="2565360"/>
            <a:ext cx="2566800" cy="1828800"/>
          </a:xfrm>
          <a:prstGeom prst="wedgeEllipseCallout">
            <a:avLst>
              <a:gd name="adj1" fmla="val 62120"/>
              <a:gd name="adj2" fmla="val -190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79640" y="4076640"/>
            <a:ext cx="2819160" cy="1600200"/>
          </a:xfrm>
          <a:prstGeom prst="wedgeEllipseCallout">
            <a:avLst>
              <a:gd name="adj1" fmla="val -54888"/>
              <a:gd name="adj2" fmla="val -691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35640" y="4149720"/>
            <a:ext cx="2819160" cy="1828800"/>
          </a:xfrm>
          <a:prstGeom prst="wedgeEllipseCallout">
            <a:avLst>
              <a:gd name="adj1" fmla="val 62231"/>
              <a:gd name="adj2" fmla="val -883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88360" y="2276640"/>
            <a:ext cx="900000" cy="194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-13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00" y="-91440"/>
            <a:ext cx="26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1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6360" y="5157720"/>
            <a:ext cx="2438280" cy="1257480"/>
          </a:xfrm>
          <a:prstGeom prst="wedgeEllipseCallout">
            <a:avLst>
              <a:gd name="adj1" fmla="val -72398"/>
              <a:gd name="adj2" fmla="val -1183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76720" y="5157720"/>
            <a:ext cx="2438640" cy="1257480"/>
          </a:xfrm>
          <a:prstGeom prst="wedgeEllipseCallout">
            <a:avLst>
              <a:gd name="adj1" fmla="val 42773"/>
              <a:gd name="adj2" fmla="val -1477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70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tes 1 febrero  Prepare and practise a simple conver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21:06:27Z</dcterms:created>
  <dc:creator>Katy Oliver</dc:creator>
  <dc:description/>
  <dc:language>en-US</dc:language>
  <cp:lastModifiedBy>Katy Oliver</cp:lastModifiedBy>
  <dcterms:modified xsi:type="dcterms:W3CDTF">2011-01-31T14:47:09Z</dcterms:modified>
  <cp:revision>2</cp:revision>
  <dc:subject/>
  <dc:title>Slide 1</dc:title>
</cp:coreProperties>
</file>